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4C0-DED5-41A3-87E4-C93E794B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9DF-2A13-4E97-A370-650CF2D9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29D-B08A-4741-B0FD-15E1986E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6DD-BE8A-4C21-A193-783AB6BF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698-A983-411D-A012-EBB1B7C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E18-FF37-431C-8DC9-DC64A479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F8D7-BF6F-446E-BB4A-A8748A6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2A5-321A-42FD-ABDE-016BEB1B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EC3-7C7B-41CA-AD82-C7555F2E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E3C9-77CD-4B4A-B956-F901B254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CDFD-B5E7-4494-851F-1FC35AD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F90-A804-44CA-9505-D7666E75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41B-FE2C-47EC-9067-40EEE50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F448-6BB5-429C-A320-65445F1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92AC-51B1-4446-BEB0-BB360B8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F42B-5B84-4402-BA6A-7AD3F8AE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D24-C0B8-4C80-BC77-B1FC05C6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F63-F47D-40B9-A13E-255B0BB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CF1-5781-4C45-953D-B780C67B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EF3-8893-4018-BA10-A89FF17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A26-0FF0-46CF-AB23-F9B80D2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32E-1D1A-45D5-A90F-0F4F08E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3F4-4F1B-43AA-B792-3C8E90F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AA9-3875-433A-8C94-88454C0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124-FA42-43CF-888C-F4A801F5F4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00B-7FF8-40F6-8DA1-5B88511273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ndlin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nother Measure of Growth Rat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rate and trend 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the growth rate compare to students in the normed sample at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does the trend line indicate that the student is going to achieve proficienc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c—25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havior—75 percent or 100 per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s at Level III that approximate special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: How Do They Show Growth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 that you draw through a series of data points that represents the student’s actual rate of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flatter than the aimline, then adjust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trend line slope is steeper than the aimline then adjust goal or area of interv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 slopes are the same make no ch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1138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 Procedures:  Can be done in Excel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first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a horizontal line through median of second half of data – form an intersection with vertical 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nect the two interse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your decision, is it the same decis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end Lines and Entitlement Crite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determine how long it will be before the student’s skills are likely to be profici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d for Behavior Entit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Academics as we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cademics, can add student’s current growth rate to the median of the last 3 data points to determine how many weeks it will take the student to meet proficiency standa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 Short Term Intervention Nee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tudent’s growth rate is 3 words per we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25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rcentile for Spring is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6 - 7 weeks, the student is likely to have reached proficiency on this prob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7 – 68 = 1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 X 6   = 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286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is in Grade 4 and is receiving intervention in reading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3/1/10, the median of the last 3 data points for the student is 6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’s growth rate is 0.5 words/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udent will need 36 to 37 weeks to become profic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7 –  68 = 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.5 x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6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 1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 Long-term Intervention Need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at time the student will be into the next school year and, possibly, in the next grade level with even more difficult reading passages to mas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DOES THE DATA SHOW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ison to peers, e.g. normative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student above or below the 1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25th/3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5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ercentile for academ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s the student met behavior goa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00:06Z</dcterms:created>
  <dc:creator>user</dc:creator>
  <dc:description/>
  <dc:language>en-US</dc:language>
  <cp:lastModifiedBy>user</cp:lastModifiedBy>
  <dcterms:modified xsi:type="dcterms:W3CDTF">2010-09-03T19:00:38Z</dcterms:modified>
  <cp:revision>1</cp:revision>
  <dc:subject/>
  <dc:title>Trendlines</dc:title>
</cp:coreProperties>
</file>